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E3E-32C7-48C4-8EA5-6E85A2D0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EA1-188B-4542-9855-E2FE088F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9BA-C0C0-4533-876E-0E1F6C52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058-7BB1-4BF2-8E93-53878CD4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B68-9BAC-4499-A4C5-BF2560E2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1A2-57CE-410C-92CD-877CF0A3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4F9-E693-4DE7-8B87-A1D41BDD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108-C83E-4BB8-9FBF-F4CFA0BE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5DB-B0B1-4E14-B235-652A4163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74D-CB9A-442F-A8A7-F2850AC3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D55-D878-4B5E-9F53-4B5B875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7F5-0FC2-47F7-B483-CC1CF23D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DA32-0087-45EF-A0F5-E3F897233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0" y="0"/>
            <a:ext cx="12192120" cy="19144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90320"/>
            <a:ext cx="105156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1" descr="When there is a need for transfusion? &#10;1 Not 2 Transfuse the minimal amount of RBC units followed by a clinical assessment for the need of additional transfusions. &#10;7 Not 9 Transfuse RBC at Hgb less than 7.0g/dl in stable patients"/>
          <p:cNvPicPr/>
          <p:nvPr/>
        </p:nvPicPr>
        <p:blipFill>
          <a:blip r:embed="rId1"/>
          <a:stretch/>
        </p:blipFill>
        <p:spPr>
          <a:xfrm>
            <a:off x="77760" y="2022480"/>
            <a:ext cx="12114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6560" y="447840"/>
            <a:ext cx="3414960" cy="3801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960" y="731520"/>
            <a:ext cx="2844720" cy="32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 coming up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66560" y="4419720"/>
            <a:ext cx="3414960" cy="1979640"/>
          </a:xfrm>
          <a:prstGeom prst="rect">
            <a:avLst/>
          </a:prstGeom>
          <a:solidFill>
            <a:srgbClr val="5b9bd5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044960" y="447840"/>
            <a:ext cx="7688160" cy="5952960"/>
          </a:xfrm>
          <a:prstGeom prst="rect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Less is more for transusions- The best evidence indicates a more restrictive approach (HgB trigger &lt; 7 g/dl and prophylactic PLT threshold &lt; 10K) not only saves blood but also saves lives.&#10;&#10;Why give Two when One will do! - In the absence of acute hemorrhage, RBC transfusions should be ordered as single units followed by a clinical reassessment prior to any additional transfusions. "/>
          <p:cNvPicPr/>
          <p:nvPr/>
        </p:nvPicPr>
        <p:blipFill>
          <a:blip r:embed="rId1"/>
          <a:stretch/>
        </p:blipFill>
        <p:spPr>
          <a:xfrm>
            <a:off x="4370400" y="689040"/>
            <a:ext cx="7053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05:13:04Z</dcterms:created>
  <dc:creator>Abumuhor, Ihab A</dc:creator>
  <dc:description/>
  <dc:language>en-US</dc:language>
  <cp:lastModifiedBy>app</cp:lastModifiedBy>
  <cp:lastPrinted>2022-08-24T22:15:45Z</cp:lastPrinted>
  <dcterms:modified xsi:type="dcterms:W3CDTF">2023-09-22T20:44:10Z</dcterms:modified>
  <cp:revision>91</cp:revision>
  <dc:subject/>
  <dc:title>Quality Assurance Meeting</dc:title>
</cp:coreProperties>
</file>